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486F-C144-4C15-AD35-2087DF34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6075-B44F-40D4-B6A2-4BAD26B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58AB-08F7-428C-9239-E5E9E333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1D18-AAF5-4C8D-9645-1BD12B4A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BCE8-1651-4BD4-93B8-4B6BD6AB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01C5-DE60-4CC5-B994-7ECAA9C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DCD0-9E4F-47FA-9FC0-51B8145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E258-A8B3-43A0-9658-6238927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968B-56CD-4AF7-8E93-5DF706E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2B8-DB45-495A-8187-1DA5199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FE1-46B6-41AA-943A-9896D49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F1C8-D4A3-4930-BCF2-2961A8A6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3BFB-4958-4ADF-83A7-FE73549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A0C1-F33E-4813-AA84-2BB23F3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09D-CB1C-4729-A18A-BC936A49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CF4B-8647-4D38-B15F-D012A9FC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4E3-D7B5-4C97-99E5-058CB2A8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D13B-A8DD-4F14-8609-29FDD3E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B28F-AE27-4E2D-8A67-44E8F15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D80E-E379-44E5-B5BD-C09560D0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96EF-6354-4571-8215-50B6D946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1F47-9F32-424B-975C-E127C9C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6FC2-D121-4F7C-8C75-902580A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F65F-CC78-4A38-B1A1-21F724F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BDE-E75F-43CB-83F0-0D76482A999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FDA-4B57-4F0C-A589-CABA496E372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47200"/>
            <a:ext cx="93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20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й, още при слънчев изгре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същият сладък напев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шата ми пее безспир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ира, Божия 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 сладък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ен си от Бога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ладък мир, пречуден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Бога най-благий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ога се Бог в мен възцари и чудния мир ми да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радост е дивна и пир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мира, Божия 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 сладък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ен си от Бога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ладък мир, пречуден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Бога най-благий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 Кога в блаженство и пок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оя аз при Спасител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песен все пея безспир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ира, Божия м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 сладък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ен си от Бога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сладък мир, пречуден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Бога най-благий 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08:49:30Z</dcterms:modified>
  <cp:revision>67</cp:revision>
  <dc:subject/>
  <dc:title>Slide 1</dc:title>
</cp:coreProperties>
</file>